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825-31C9-4C37-B843-BDD08461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A78-040A-49E9-9A22-6B67DB2E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A61-954C-4DB4-AEF7-0D88A302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996-5577-4DAB-9C5F-6BB68C9D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6BF-149C-4B8F-A520-6F1F0374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237-8F7A-4A37-9E40-957E147F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A2B-687B-485F-B50C-A0D34D00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AA6-7AE8-4142-AB02-0D69382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5D6-958C-4939-A4B2-79F512D3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A31-C0BB-4DC6-8538-F2CF5D4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12E-3B5A-4C8F-9BE2-57629E14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6F1-5215-4E2C-97C3-6C514DDC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DA5B-27F1-4D44-8E32-15E18B0A7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bing Molecular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2952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ame and formula of a molecular compound describe the type and number of atoms in a molecule of the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86000"/>
            <a:ext cx="8077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metallic elements appears first in the name.  (Farther to the left in the P.T of Ele. and if in same group, the one closer to bottom is listed fir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f second element is changed to end in suffix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ixes for Naming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914400"/>
          <a:ext cx="5943240" cy="5562360"/>
        </p:xfrm>
        <a:graphic>
          <a:graphicData uri="http://schemas.openxmlformats.org/drawingml/2006/table">
            <a:tbl>
              <a:tblPr/>
              <a:tblGrid>
                <a:gridCol w="2971440"/>
                <a:gridCol w="29718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# of at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-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tr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p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o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most of the time mono-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43000"/>
            <a:ext cx="807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1: 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Nitrogens and 4 oxygen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g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t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514600"/>
            <a:ext cx="8153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riting molecular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rite the symbols for the elements in order they ap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 at prefixes (if any) to determine the number of atoms of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2:  diphosphorous tetrafluor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724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=  two phosphorous and tetra = 4 flu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5105520"/>
            <a:ext cx="640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2:23:46Z</dcterms:created>
  <dc:creator>jpak</dc:creator>
  <dc:description/>
  <dc:language>en-US</dc:language>
  <cp:lastModifiedBy>Farwell Area Schools</cp:lastModifiedBy>
  <dcterms:modified xsi:type="dcterms:W3CDTF">2009-02-17T18:13:09Z</dcterms:modified>
  <cp:revision>7</cp:revision>
  <dc:subject/>
  <dc:title>Describing Molecular Compounds</dc:title>
</cp:coreProperties>
</file>